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499-E93C-4C1C-8D6C-68F9B15E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5F3-D3E6-405D-8171-07CA30E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76C-ADD0-4B3D-A019-398B58AB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498-1E08-4D8D-9C33-FA67E136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04E0-D34A-4070-BFC6-6A1D0E2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C76B-A7A5-4345-869E-8E0A73A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6BE-21D8-427B-9AE4-2103DEE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3B91-2B8F-4895-91D8-2913B02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D87-0C02-40B8-94BC-6489135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518A-31A9-429E-AE82-B5D20141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B4EA-07C3-4603-9551-AA09FE4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867-5C12-49E7-A399-9D7595F7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CA6D-3395-47F0-A574-B5A157B2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0A1-B1F6-47AA-B1DB-C681DFA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FAF8-9A96-4706-909E-2E13B3E2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C26-C9E7-4375-B308-CEB95184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8696-FAB4-43EB-A263-DEB3C49C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AB7-9716-4BF1-B136-7FEF824C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8E6-C86C-4CB9-B727-252623C3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221-CA8C-4420-8E4E-16F260B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A1C-E96C-4818-984B-D5A0CF56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55A-FD86-4E93-8DD1-9090A17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00B-3174-4545-B0FA-05D161E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B17-5E1F-4897-9CED-F7A401E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FC0-0AE8-4025-8832-C978EB62C7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C2C-9BB6-4B44-89BF-5C29086C31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pecial Education teachers are sitting in the teacher’s lounge during their conference period and having a powerful discussion on a new Special Education student in their classroom who has moved in from another distri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0880"/>
            <a:ext cx="4740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 work is tied to meaningful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1-18T04:38:51Z</dcterms:modified>
  <cp:revision>2</cp:revision>
  <dc:subject/>
  <dc:title>The 3 C’s</dc:title>
</cp:coreProperties>
</file>